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E731-03D5-4555-97ED-83402B24B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31DB-AA5B-40BC-A028-D24373F5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382F-40D1-4E1E-8C0A-33D88118F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EE35-189D-4B9B-B535-C0C452F50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3B52-3361-41DB-9096-648ED106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9712-0E84-452B-80C5-72B06B93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DA70-1F4A-4451-8DF2-4A7FC23C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461C-DF58-45E8-8BC7-006F58BA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8975-220B-488D-9859-59498334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D593-83C9-47DC-B7D4-06D81D1E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B195-49E6-4341-910C-1038F2D0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25BE-CD5D-4FA5-970B-E729A592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AFC6-7313-4F39-81F4-CE6F5530B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351640" cy="5975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00000" y="4076640"/>
            <a:ext cx="6120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емлетрясен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1424160" y="1692360"/>
            <a:ext cx="6292800" cy="3449880"/>
            <a:chOff x="1424160" y="1692360"/>
            <a:chExt cx="6292800" cy="3449880"/>
          </a:xfrm>
        </p:grpSpPr>
        <p:sp>
          <p:nvSpPr>
            <p:cNvPr id="74" name="_s13318"/>
            <p:cNvSpPr/>
            <p:nvPr/>
          </p:nvSpPr>
          <p:spPr>
            <a:xfrm>
              <a:off x="3719520" y="2305080"/>
              <a:ext cx="1701720" cy="175068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3319"/>
            <p:cNvSpPr/>
            <p:nvPr/>
          </p:nvSpPr>
          <p:spPr>
            <a:xfrm>
              <a:off x="3719520" y="1692360"/>
              <a:ext cx="1701720" cy="4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РОССИЯ: 12-балльная шкала МSK-64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(Медведева-Шпонхойера-Карника)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3320"/>
            <p:cNvSpPr/>
            <p:nvPr/>
          </p:nvSpPr>
          <p:spPr>
            <a:xfrm>
              <a:off x="4280040" y="3305160"/>
              <a:ext cx="1701720" cy="175068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3321"/>
            <p:cNvSpPr/>
            <p:nvPr/>
          </p:nvSpPr>
          <p:spPr>
            <a:xfrm>
              <a:off x="6014880" y="4704840"/>
              <a:ext cx="170208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АМЕРИКА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10-балльная шкал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Росси-Форел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3322"/>
            <p:cNvSpPr/>
            <p:nvPr/>
          </p:nvSpPr>
          <p:spPr>
            <a:xfrm>
              <a:off x="3157560" y="3303000"/>
              <a:ext cx="1701720" cy="17506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3323"/>
            <p:cNvSpPr/>
            <p:nvPr/>
          </p:nvSpPr>
          <p:spPr>
            <a:xfrm>
              <a:off x="1424160" y="4704840"/>
              <a:ext cx="170172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ЯПОНИЯ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7-балльная шкал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1476360" y="6166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Сейсмические шкалы мир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11280" y="136440"/>
            <a:ext cx="835344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2553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алл — Проявление на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553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553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— Не ощущается никем, регистрируется только сейсмическими прибо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553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— Ощущается иногда людьми, находящимися в спокойном состоя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553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— Ощущается немногими, более сильно проявляется в помещении на верхних этаж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553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— Ощущается многими (особенно в помещении), в ночное время некоторые просыпаются. Возможен звон посуды, дребезжание стекол, хлопки двер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553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— Ощущается почти всеми, многие ночью просыпаются. Качание висячих предметов, трещины в оконных стеклах и штукатур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553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 — Ощущается всеми, осыпается штукатурка, легкие разрушения з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4360" y="744840"/>
            <a:ext cx="799128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— Трещины в штукатурке и откалывание отдельных кусков, тонкие трещины в стенах. Толчки ощущаются в автомобил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— Большие трещины в стенах, падение труб, памятников. Трещины на крутых склонах и на сырой поч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 — Обрушение стен, перекрытий кровли в некоторых зданиях, разрывы подземных трубопров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— Обвалы многих зданий, искривление железнодорожных рельсов. Оползни, обвалы, трещины (до 1 м) в грун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— Многочисленные широкие трещины в земле, обвалы в горах, обрушение мостов, только немногие каменные здания сохраняют устойч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— Значительные изменения рельефа, отклонение течения рек, предметы подбрасываются в воздух, тотальное разрушение соору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Почему люди гибнут при землетрясения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сли землетрясения происходят в море, то они могут вызвать разрушительные волны — цунами, наиболее часто опустошающие побережья Тихого океана, как это произошло в 1933 в Японии и в 1952 на Камчат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24000" y="260280"/>
            <a:ext cx="1742760" cy="1681200"/>
            <a:chOff x="324000" y="260280"/>
            <a:chExt cx="1742760" cy="1681200"/>
          </a:xfrm>
        </p:grpSpPr>
        <p:sp>
          <p:nvSpPr>
            <p:cNvPr id="85" name="Puzzle3"/>
            <p:cNvSpPr/>
            <p:nvPr/>
          </p:nvSpPr>
          <p:spPr>
            <a:xfrm>
              <a:off x="1172520" y="260280"/>
              <a:ext cx="685080" cy="89352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Puzzle2"/>
            <p:cNvSpPr/>
            <p:nvPr/>
          </p:nvSpPr>
          <p:spPr>
            <a:xfrm>
              <a:off x="973440" y="911160"/>
              <a:ext cx="1093320" cy="8136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Puzzle4"/>
            <p:cNvSpPr/>
            <p:nvPr/>
          </p:nvSpPr>
          <p:spPr>
            <a:xfrm>
              <a:off x="550080" y="901080"/>
              <a:ext cx="659160" cy="104040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Puzzle1"/>
            <p:cNvSpPr/>
            <p:nvPr/>
          </p:nvSpPr>
          <p:spPr>
            <a:xfrm>
              <a:off x="324000" y="530280"/>
              <a:ext cx="1107000" cy="62028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щее число жерт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емлетрясений на планете за последние 500 лет составило около 5 млн. чел., почти половина из них приходится на Китай. Большие потери при землетрясениях обычно связаны с высокой плотностью населения, примитивными методами строительства, особенно характерными для бедных район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020000" y="189000"/>
            <a:ext cx="1743120" cy="1681200"/>
            <a:chOff x="7020000" y="189000"/>
            <a:chExt cx="1743120" cy="1681200"/>
          </a:xfrm>
        </p:grpSpPr>
        <p:sp>
          <p:nvSpPr>
            <p:cNvPr id="91" name="Puzzle3"/>
            <p:cNvSpPr/>
            <p:nvPr/>
          </p:nvSpPr>
          <p:spPr>
            <a:xfrm>
              <a:off x="7868880" y="189000"/>
              <a:ext cx="685080" cy="89352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Puzzle2"/>
            <p:cNvSpPr/>
            <p:nvPr/>
          </p:nvSpPr>
          <p:spPr>
            <a:xfrm>
              <a:off x="7669440" y="839880"/>
              <a:ext cx="1093680" cy="8136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Puzzle4"/>
            <p:cNvSpPr/>
            <p:nvPr/>
          </p:nvSpPr>
          <p:spPr>
            <a:xfrm>
              <a:off x="7246080" y="829800"/>
              <a:ext cx="659160" cy="104040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Puzzle1"/>
            <p:cNvSpPr/>
            <p:nvPr/>
          </p:nvSpPr>
          <p:spPr>
            <a:xfrm>
              <a:off x="7020000" y="459000"/>
              <a:ext cx="1107000" cy="62028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лезно также воспользоваться советом — во время землетрясения не выбегать на улицу, а лучше укрыться в дверном проеме или под крепкой плитой или доской (столом), способных выдержать вес обрушивающегося гру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948360" y="4797360"/>
            <a:ext cx="1743120" cy="1681200"/>
            <a:chOff x="6948360" y="4797360"/>
            <a:chExt cx="1743120" cy="1681200"/>
          </a:xfrm>
        </p:grpSpPr>
        <p:sp>
          <p:nvSpPr>
            <p:cNvPr id="97" name="Puzzle3"/>
            <p:cNvSpPr/>
            <p:nvPr/>
          </p:nvSpPr>
          <p:spPr>
            <a:xfrm>
              <a:off x="7797240" y="4797360"/>
              <a:ext cx="685080" cy="89352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Puzzle2"/>
            <p:cNvSpPr/>
            <p:nvPr/>
          </p:nvSpPr>
          <p:spPr>
            <a:xfrm>
              <a:off x="7597800" y="5448240"/>
              <a:ext cx="1093680" cy="8136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Puzzle4"/>
            <p:cNvSpPr/>
            <p:nvPr/>
          </p:nvSpPr>
          <p:spPr>
            <a:xfrm>
              <a:off x="7174440" y="5438160"/>
              <a:ext cx="659160" cy="104040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Puzzle1"/>
            <p:cNvSpPr/>
            <p:nvPr/>
          </p:nvSpPr>
          <p:spPr>
            <a:xfrm>
              <a:off x="6948360" y="5067360"/>
              <a:ext cx="1107000" cy="62028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ейсмогра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первые инструментальные наблюдения появились в Китае, где в 132 Чан Хен изобрел сейсмоскоп, представлявший собой искусно сделанный сосуд. На внешней стороне сосуда, с размещенным внутри маятником, по кругу были выгравированы головы драконов, держащих в пасти шарики. При качании маятника от землетрясения один или несколько шариков выпадали в открытые рты лягушек, размещенных у основания сосудов таким образом, чтобы лягушки могли их проглот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временный сейсмограф представляет собой комплект приборов, регистрирующих колебания грунта при землетрясении и преобразующих их в электрический сигнал, записываемый на сейсмограммах в аналоговой и цифровой форме. Однако, по-прежнему, основным чувствительным элементом служит маятник с груз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6948360" y="620640"/>
            <a:ext cx="1743120" cy="1681200"/>
            <a:chOff x="6948360" y="620640"/>
            <a:chExt cx="1743120" cy="1681200"/>
          </a:xfrm>
        </p:grpSpPr>
        <p:sp>
          <p:nvSpPr>
            <p:cNvPr id="104" name="Puzzle3"/>
            <p:cNvSpPr/>
            <p:nvPr/>
          </p:nvSpPr>
          <p:spPr>
            <a:xfrm>
              <a:off x="7797240" y="620640"/>
              <a:ext cx="685080" cy="89352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Puzzle2"/>
            <p:cNvSpPr/>
            <p:nvPr/>
          </p:nvSpPr>
          <p:spPr>
            <a:xfrm>
              <a:off x="7597800" y="1271520"/>
              <a:ext cx="1093680" cy="8136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Puzzle4"/>
            <p:cNvSpPr/>
            <p:nvPr/>
          </p:nvSpPr>
          <p:spPr>
            <a:xfrm>
              <a:off x="7174440" y="1261440"/>
              <a:ext cx="659160" cy="104040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Puzzle1"/>
            <p:cNvSpPr/>
            <p:nvPr/>
          </p:nvSpPr>
          <p:spPr>
            <a:xfrm>
              <a:off x="6948360" y="890640"/>
              <a:ext cx="1107000" cy="62028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блюдения за землетрясе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дутся с древнейших време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тальные исторические описа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дежно свидетельствующие о землетрясениях с сер. 1 тыс. до н. э., даны японцами. Большое внимание сейсмичности уделяли и античные ученые — Аристотель и др. Систематические инструментальные наблюдения, начатые во 2-ой пол. 19 в., привели к выделению сейсмологии в самостоятельную науку (Б. Б. Голицын, Э. Вихерт, Б. Гутенберг, А. Мохоровичич, Ф. Омори и др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оссии пока не угрожает данная проблема, но нужно быть готовым к любым неожиданностям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изнь полна неожиданностей 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удьте на чайк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асибо за внимание!!!!!!!!!!!!!!!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ЗЕМЛЕТРЯСЕНИ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подземные толчки и колебания земной поверхности, возникающие в результате внезапных смещений и разрывов в земной коре или верхней части мантии и передающиеся на большие расстояния в виде упругих колеба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380360" y="5013360"/>
            <a:ext cx="1296720" cy="1366920"/>
            <a:chOff x="7380360" y="5013360"/>
            <a:chExt cx="1296720" cy="1366920"/>
          </a:xfrm>
        </p:grpSpPr>
        <p:sp>
          <p:nvSpPr>
            <p:cNvPr id="45" name="Puzzle3"/>
            <p:cNvSpPr/>
            <p:nvPr/>
          </p:nvSpPr>
          <p:spPr>
            <a:xfrm>
              <a:off x="8011800" y="5013360"/>
              <a:ext cx="509760" cy="7264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Puzzle2"/>
            <p:cNvSpPr/>
            <p:nvPr/>
          </p:nvSpPr>
          <p:spPr>
            <a:xfrm>
              <a:off x="7863480" y="5542560"/>
              <a:ext cx="813600" cy="66168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Puzzle4"/>
            <p:cNvSpPr/>
            <p:nvPr/>
          </p:nvSpPr>
          <p:spPr>
            <a:xfrm>
              <a:off x="7548840" y="5534280"/>
              <a:ext cx="490680" cy="84600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Puzzle1"/>
            <p:cNvSpPr/>
            <p:nvPr/>
          </p:nvSpPr>
          <p:spPr>
            <a:xfrm>
              <a:off x="7380360" y="5232960"/>
              <a:ext cx="824040" cy="504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енсивность землетрясений оценивается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ейсмических балла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вестно два главных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ейсмических пояс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Тихоокеански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охватывающий кольцом берега Тихого ок., и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редиземноморски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простирающийся через юг Евразии от Пиренейского п-ова на запад до Малайского арх. на восто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7164360" y="189000"/>
            <a:ext cx="1743120" cy="1681200"/>
            <a:chOff x="7164360" y="189000"/>
            <a:chExt cx="1743120" cy="1681200"/>
          </a:xfrm>
        </p:grpSpPr>
        <p:sp>
          <p:nvSpPr>
            <p:cNvPr id="51" name="Puzzle3"/>
            <p:cNvSpPr/>
            <p:nvPr/>
          </p:nvSpPr>
          <p:spPr>
            <a:xfrm>
              <a:off x="8013240" y="189000"/>
              <a:ext cx="685080" cy="89352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Puzzle2"/>
            <p:cNvSpPr/>
            <p:nvPr/>
          </p:nvSpPr>
          <p:spPr>
            <a:xfrm>
              <a:off x="7813800" y="839880"/>
              <a:ext cx="1093680" cy="8136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Puzzle4"/>
            <p:cNvSpPr/>
            <p:nvPr/>
          </p:nvSpPr>
          <p:spPr>
            <a:xfrm>
              <a:off x="7390440" y="829800"/>
              <a:ext cx="659160" cy="104040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Puzzle1"/>
            <p:cNvSpPr/>
            <p:nvPr/>
          </p:nvSpPr>
          <p:spPr>
            <a:xfrm>
              <a:off x="7164360" y="459000"/>
              <a:ext cx="1107000" cy="62028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4000" y="404280"/>
            <a:ext cx="800244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аиболее известные катастрофические землетрясен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ссабонское 1755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лифорнийское 1906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ссинское 1908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шхабадское 1948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лийское 196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ншанское 1976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мянское 1988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ранское 199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659640" y="2276640"/>
            <a:ext cx="1743120" cy="1680480"/>
            <a:chOff x="6659640" y="2276640"/>
            <a:chExt cx="1743120" cy="1680480"/>
          </a:xfrm>
        </p:grpSpPr>
        <p:sp>
          <p:nvSpPr>
            <p:cNvPr id="57" name="Puzzle3"/>
            <p:cNvSpPr/>
            <p:nvPr/>
          </p:nvSpPr>
          <p:spPr>
            <a:xfrm>
              <a:off x="7508520" y="2276640"/>
              <a:ext cx="685080" cy="89316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Puzzle2"/>
            <p:cNvSpPr/>
            <p:nvPr/>
          </p:nvSpPr>
          <p:spPr>
            <a:xfrm>
              <a:off x="7309080" y="2927160"/>
              <a:ext cx="1093680" cy="8136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Puzzle4"/>
            <p:cNvSpPr/>
            <p:nvPr/>
          </p:nvSpPr>
          <p:spPr>
            <a:xfrm>
              <a:off x="6885720" y="2917080"/>
              <a:ext cx="659160" cy="104004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Puzzle1"/>
            <p:cNvSpPr/>
            <p:nvPr/>
          </p:nvSpPr>
          <p:spPr>
            <a:xfrm>
              <a:off x="6659640" y="2546640"/>
              <a:ext cx="1107000" cy="61992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Где и почему происходят землетрясения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йоны распространения землетрясений в России. Интерактивная ка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рриториальное распределение землетрясений неравномерно. Оно определяется перемещением и взаимодействием литосферных плит. Главный сейсмический пояс, в котором выделяется до 80% всей сейсмической энергии, расположен в Тихом океане в районе глубоководных желобов, где происходит подвигание холодных литосферных плит под континент. Остальная энергия выделяется в Евроазиатском складчатом поясе в местах столкновения Евроазиатской плиты с Индийской и Африканской плитами и в районах срединно-океанических хребтов в условиях растяжения литосфе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2803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86868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12740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Параметры землетряс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412740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чаги землетрясений располагаются на глубинах до 700 км, но большая часть (3/4) сейсмической энергии выделяется в очагах, находящихся на глубине до 70 к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412740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8360" y="2997360"/>
            <a:ext cx="4608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905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мер очага катастрофических землетрясений может достигать 100x1000 км. Его положение и место начала перемещения масс (гипоцентр) определяют путем регистрации сейсмических волн, возникающих при землетрясениях (у слабых землетрясений очаг и гипоцентр совпадают). Проекция гипоцентра на земную поверхность именуется эпицентром. Вокруг него располагается область наибольших разрушений (эпицентральная, или плейстосейстовая, област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тенсивность проявления землетрясений на поверхности измеряется в баллах и зависит от глубины очага и магнитуды землетрясения, служащей мерой его энергии. Максимальное известное значение магнитуды приближается к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093080" y="4653000"/>
            <a:ext cx="1743120" cy="1681200"/>
            <a:chOff x="7093080" y="4653000"/>
            <a:chExt cx="1743120" cy="1681200"/>
          </a:xfrm>
        </p:grpSpPr>
        <p:sp>
          <p:nvSpPr>
            <p:cNvPr id="69" name="Puzzle3"/>
            <p:cNvSpPr/>
            <p:nvPr/>
          </p:nvSpPr>
          <p:spPr>
            <a:xfrm>
              <a:off x="7941960" y="4653000"/>
              <a:ext cx="685080" cy="89352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Puzzle2"/>
            <p:cNvSpPr/>
            <p:nvPr/>
          </p:nvSpPr>
          <p:spPr>
            <a:xfrm>
              <a:off x="7742520" y="5303880"/>
              <a:ext cx="1093680" cy="8136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Puzzle4"/>
            <p:cNvSpPr/>
            <p:nvPr/>
          </p:nvSpPr>
          <p:spPr>
            <a:xfrm>
              <a:off x="7319160" y="5293800"/>
              <a:ext cx="659160" cy="104040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Puzzle1"/>
            <p:cNvSpPr/>
            <p:nvPr/>
          </p:nvSpPr>
          <p:spPr>
            <a:xfrm>
              <a:off x="7093080" y="4923000"/>
              <a:ext cx="1107000" cy="62028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4T09:34:45Z</dcterms:created>
  <dc:creator>Анастасия</dc:creator>
  <dc:description/>
  <dc:language>en-US</dc:language>
  <cp:lastModifiedBy>Анастасия</cp:lastModifiedBy>
  <dcterms:modified xsi:type="dcterms:W3CDTF">2009-04-20T03:32:24Z</dcterms:modified>
  <cp:revision>5</cp:revision>
  <dc:subject/>
  <dc:title>Слайд 1</dc:title>
</cp:coreProperties>
</file>